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771-304D-4A51-8191-826963BF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75D-8885-4F9A-8505-009BAB21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746-5BAA-4884-9625-DE819AA5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F4F-217F-4B63-8004-0BB68D4F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405-62F5-4668-BA52-779E533C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E7E-88AC-4736-918A-6F317BED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AB3-CCFF-4FDA-815B-16B7F4FE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30E-81B2-4682-B537-2DDC714B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6CF-9095-4FB3-8F03-CD874912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9ED-A854-4B9F-95C0-054316EC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117-2271-4A10-9009-BDA04EA4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78EF-E54A-4C44-AF87-E89DFE98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5FED-30DA-42C5-8917-2F838980C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1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ECT111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28600" y="457200"/>
            <a:ext cx="8686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MultiSim, Excel and hand calculations create a set of notes that show how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) Multiple resistors combine in series and parall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) By example calculate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and all the nodal voltages, branch currents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sipation of a resistor networ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) By example calculate the Thevenin Resistance and Voltage of a resistor networ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) Multiple capacitors combine in series and parall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) Multiple inductors  combine in series and parall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) Using a simple RC circuit determin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) Time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) Create a graph that shows the RC time constant as a function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.) Determine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t a fixed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.) Create a graph that shows how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hanges as a function of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5040" y="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ECT111 Notes - Resi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1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ECT111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28600" y="45720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MultiSim, Excel and hand calculations create a set of notes that show h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.) Using a simple RL circuit determin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) Time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) Create a graph that shows the RL time constant as a function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.) Determine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t a fixed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.) Create a graph that shows how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hanges as a function of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5040" y="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ECT111 Notes - Resi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7"/>
          <p:cNvGraphicFramePr/>
          <p:nvPr/>
        </p:nvGraphicFramePr>
        <p:xfrm>
          <a:off x="371520" y="838080"/>
          <a:ext cx="2943360" cy="286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838080"/>
                    <a:ext cx="294336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11"/>
          <p:cNvGraphicFramePr/>
          <p:nvPr/>
        </p:nvGraphicFramePr>
        <p:xfrm>
          <a:off x="3419640" y="838080"/>
          <a:ext cx="4162320" cy="2867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838080"/>
                    <a:ext cx="41623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12"/>
          <p:cNvGraphicFramePr/>
          <p:nvPr/>
        </p:nvGraphicFramePr>
        <p:xfrm>
          <a:off x="371520" y="3809880"/>
          <a:ext cx="4181400" cy="2867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520" y="3809880"/>
                    <a:ext cx="418140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3"/>
          <p:cNvGraphicFramePr/>
          <p:nvPr/>
        </p:nvGraphicFramePr>
        <p:xfrm>
          <a:off x="4638600" y="3809880"/>
          <a:ext cx="3438720" cy="28670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3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38600" y="3809880"/>
                    <a:ext cx="34387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" name="Object 14"/>
              <p:cNvSpPr txBox="1"/>
              <p:nvPr/>
            </p:nvSpPr>
            <p:spPr>
              <a:xfrm>
                <a:off x="1895400" y="3200400"/>
                <a:ext cx="114300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3652920" y="5943600"/>
                <a:ext cx="6318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5248440" y="2666880"/>
                <a:ext cx="20574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9"/>
              <p:cNvSpPr txBox="1"/>
              <p:nvPr/>
            </p:nvSpPr>
            <p:spPr>
              <a:xfrm>
                <a:off x="6423120" y="5867280"/>
                <a:ext cx="1390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x 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TextBox 23"/>
          <p:cNvSpPr/>
          <p:nvPr/>
        </p:nvSpPr>
        <p:spPr>
          <a:xfrm>
            <a:off x="254160" y="457200"/>
            <a:ext cx="57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) How do multiple resistors combine in series and parall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1832400" y="342900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5"/>
          <p:cNvSpPr/>
          <p:nvPr/>
        </p:nvSpPr>
        <p:spPr>
          <a:xfrm>
            <a:off x="3972600" y="3429000"/>
            <a:ext cx="30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llel – more than 3 unequal resis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6"/>
          <p:cNvSpPr/>
          <p:nvPr/>
        </p:nvSpPr>
        <p:spPr>
          <a:xfrm>
            <a:off x="925920" y="6397560"/>
            <a:ext cx="30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llel – multiple equal value resis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7"/>
          <p:cNvSpPr/>
          <p:nvPr/>
        </p:nvSpPr>
        <p:spPr>
          <a:xfrm>
            <a:off x="4960800" y="639756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llel – two unequal value resis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5040" y="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ECT111 Notes - Resi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301680" y="1214280"/>
          <a:ext cx="8574120" cy="479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1214280"/>
                    <a:ext cx="857412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Box 2"/>
          <p:cNvSpPr/>
          <p:nvPr/>
        </p:nvSpPr>
        <p:spPr>
          <a:xfrm>
            <a:off x="251640" y="457200"/>
            <a:ext cx="8305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) By example calculate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and all the nodal voltages, branch currents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sipation of a resistor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61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ECT111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228600" y="4572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) By example calculate the Thevenin Resistance and Voltage of a resistor networ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238880" cy="414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Object 6"/>
          <p:cNvGraphicFramePr/>
          <p:nvPr/>
        </p:nvGraphicFramePr>
        <p:xfrm>
          <a:off x="5562720" y="4038480"/>
          <a:ext cx="2960640" cy="259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4038480"/>
                    <a:ext cx="29606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5040" y="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ECT111 Notes - Resi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3"/>
          <p:cNvSpPr/>
          <p:nvPr/>
        </p:nvSpPr>
        <p:spPr>
          <a:xfrm>
            <a:off x="5040" y="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ECT111 Notes - Resi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5040" y="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ECT111 Notes - Resi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5040" y="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ECT111 Notes - Resi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9:44:45Z</dcterms:created>
  <dc:creator>Current User</dc:creator>
  <dc:description/>
  <dc:language>en-US</dc:language>
  <cp:lastModifiedBy>Ivan Ernesto Cervantes</cp:lastModifiedBy>
  <dcterms:modified xsi:type="dcterms:W3CDTF">2015-12-10T22:43:54Z</dcterms:modified>
  <cp:revision>147</cp:revision>
  <dc:subject/>
  <dc:title>Slide 1</dc:title>
</cp:coreProperties>
</file>