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DC5B-DEB6-404E-B46B-372EA48C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72D7-FD8E-4945-AC5F-57F1E75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A0C0-D8C4-40B7-BC0A-8FF0640C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D4CF-37E2-4A66-9AC3-D8725D34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45E7-ADC5-4F9A-9EC3-8A87EAE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2739-5780-493D-AC06-67576BAB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E355-C163-458A-92BE-CAA354F0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9718-18C1-4B8F-9141-D3566A3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C534-5DF6-42FD-935B-CD74FFB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EE09-3EE2-4F8A-A230-9A78DD2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FE20-412F-4A5A-A346-BB5BE18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5EAF-D10B-4FDB-9577-17AB108B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573-BEED-4248-BC64-7015366572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600" y="457200"/>
            <a:ext cx="86868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sing MultiSim, Excel and hand calculations create a set of notes that show how 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) Multiple resistors combine in series and parall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.) By example calculate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and all the nodal voltages, branch currents and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sipation of a resistor network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.) By example calculate the Thevenin Resistance and Voltage of a resistor network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.) Multiple capacitors combine in series and parall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.) Multiple inductors  combine in series and parall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Create a graph that shows the RC time constant as a function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Determine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) Create a graph showing the Frequency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17440" y="4460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6320" y="1092240"/>
            <a:ext cx="2609640" cy="3514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786040" y="1523880"/>
            <a:ext cx="6162840" cy="247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809880" y="4267080"/>
          <a:ext cx="4267440" cy="22860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E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E-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5+B4+B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E-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*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53" descr=""/>
          <p:cNvPicPr/>
          <p:nvPr/>
        </p:nvPicPr>
        <p:blipFill>
          <a:blip r:embed="rId3"/>
          <a:stretch/>
        </p:blipFill>
        <p:spPr>
          <a:xfrm>
            <a:off x="-33480" y="4495680"/>
            <a:ext cx="349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391000" cy="4305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21744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Create a graph that shows the RC time constant as a function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2860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.) Determine Xc at a fixed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61800" y="1103400"/>
            <a:ext cx="3600720" cy="222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962520" y="1917720"/>
            <a:ext cx="5095800" cy="600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-22320" y="3384720"/>
            <a:ext cx="469584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673520" y="4313160"/>
          <a:ext cx="4470480" cy="2633760"/>
        </p:xfrm>
        <a:graphic>
          <a:graphicData uri="http://schemas.openxmlformats.org/drawingml/2006/table">
            <a:tbl>
              <a:tblPr/>
              <a:tblGrid>
                <a:gridCol w="876240"/>
                <a:gridCol w="966960"/>
                <a:gridCol w="876240"/>
                <a:gridCol w="874800"/>
                <a:gridCol w="876240"/>
              </a:tblGrid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E-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0E-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E-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E-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ll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+B3+B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E+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2*PI()*B1*B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28600" y="45720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09760" y="1103400"/>
            <a:ext cx="6324480" cy="5762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311400" y="33526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769840"/>
            <a:ext cx="7315200" cy="35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90360" y="1111320"/>
            <a:ext cx="8963280" cy="5724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22860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) Create a graph showing the Frequency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304920"/>
          <a:ext cx="9144000" cy="12982320"/>
        </p:xfrm>
        <a:graphic>
          <a:graphicData uri="http://schemas.openxmlformats.org/drawingml/2006/table">
            <a:tbl>
              <a:tblPr/>
              <a:tblGrid>
                <a:gridCol w="457200"/>
                <a:gridCol w="254160"/>
                <a:gridCol w="353880"/>
                <a:gridCol w="915840"/>
                <a:gridCol w="55800"/>
                <a:gridCol w="554040"/>
                <a:gridCol w="228600"/>
                <a:gridCol w="304560"/>
                <a:gridCol w="609840"/>
                <a:gridCol w="81000"/>
                <a:gridCol w="353880"/>
                <a:gridCol w="355680"/>
                <a:gridCol w="355320"/>
                <a:gridCol w="355680"/>
                <a:gridCol w="355680"/>
                <a:gridCol w="355680"/>
                <a:gridCol w="353880"/>
                <a:gridCol w="355680"/>
                <a:gridCol w="355680"/>
                <a:gridCol w="355680"/>
                <a:gridCol w="355320"/>
                <a:gridCol w="355680"/>
                <a:gridCol w="353880"/>
                <a:gridCol w="355680"/>
                <a:gridCol w="35568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00980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24928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44830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76631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69725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814557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136787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756431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504001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482312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15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619232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3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963082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36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535658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2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36239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30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88022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404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14600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370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513892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45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205999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05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90366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7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3751752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.89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gridSpan="16" rowSpan="1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6696403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07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6825231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07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835200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41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6387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41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089746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41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.917600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.41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83275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855800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015639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.876400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.375175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897000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897000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917600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8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pic>
        <p:nvPicPr>
          <p:cNvPr id="123" name="Chart 4" descr=""/>
          <p:cNvPicPr/>
          <p:nvPr/>
        </p:nvPicPr>
        <p:blipFill>
          <a:blip r:embed="rId1"/>
          <a:stretch/>
        </p:blipFill>
        <p:spPr>
          <a:xfrm>
            <a:off x="6321600" y="152280"/>
            <a:ext cx="3279600" cy="2597400"/>
          </a:xfrm>
          <a:prstGeom prst="rect">
            <a:avLst/>
          </a:prstGeom>
          <a:ln w="0">
            <a:noFill/>
          </a:ln>
        </p:spPr>
      </p:pic>
      <p:pic>
        <p:nvPicPr>
          <p:cNvPr id="124" name="Chart 5" descr=""/>
          <p:cNvPicPr/>
          <p:nvPr/>
        </p:nvPicPr>
        <p:blipFill>
          <a:blip r:embed="rId2"/>
          <a:stretch/>
        </p:blipFill>
        <p:spPr>
          <a:xfrm>
            <a:off x="3657600" y="231840"/>
            <a:ext cx="2968560" cy="2603520"/>
          </a:xfrm>
          <a:prstGeom prst="rect">
            <a:avLst/>
          </a:prstGeom>
          <a:ln w="0">
            <a:noFill/>
          </a:ln>
        </p:spPr>
      </p:pic>
      <p:pic>
        <p:nvPicPr>
          <p:cNvPr id="125" name="Chart 6" descr=""/>
          <p:cNvPicPr/>
          <p:nvPr/>
        </p:nvPicPr>
        <p:blipFill>
          <a:blip r:embed="rId3"/>
          <a:stretch/>
        </p:blipFill>
        <p:spPr>
          <a:xfrm>
            <a:off x="6022800" y="2743200"/>
            <a:ext cx="3121200" cy="2511360"/>
          </a:xfrm>
          <a:prstGeom prst="rect">
            <a:avLst/>
          </a:prstGeom>
          <a:ln w="0">
            <a:noFill/>
          </a:ln>
        </p:spPr>
      </p:pic>
      <p:pic>
        <p:nvPicPr>
          <p:cNvPr id="126" name="Chart 7" descr=""/>
          <p:cNvPicPr/>
          <p:nvPr/>
        </p:nvPicPr>
        <p:blipFill>
          <a:blip r:embed="rId4"/>
          <a:stretch/>
        </p:blipFill>
        <p:spPr>
          <a:xfrm>
            <a:off x="3657600" y="2895480"/>
            <a:ext cx="2511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28600" y="457200"/>
            <a:ext cx="86868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Create a graph that shows the RL time constant as a function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.) Determine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) Create a graph showing the Frequency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2860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1344600" y="2460600"/>
            <a:ext cx="7810560" cy="454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420840" y="1006560"/>
            <a:ext cx="2352600" cy="24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3"/>
          <a:stretch/>
        </p:blipFill>
        <p:spPr>
          <a:xfrm>
            <a:off x="5029200" y="0"/>
            <a:ext cx="263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2860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Create a graph that shows the RL time constant as a function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-76320" y="1676520"/>
            <a:ext cx="2695680" cy="368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6724440" cy="4543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962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28600" y="45720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.) Determine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438280"/>
            <a:ext cx="2514600" cy="2095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67248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28600" y="457200"/>
            <a:ext cx="868680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sing MultiSim, Excel and hand calculations create a set of notes that show h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Create a graph that shows the RL time constant as a function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Determine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) Create a graph showing the Frequency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28600" y="45720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" y="1103400"/>
          <a:ext cx="2328840" cy="5754600"/>
        </p:xfrm>
        <a:graphic>
          <a:graphicData uri="http://schemas.openxmlformats.org/drawingml/2006/table">
            <a:tbl>
              <a:tblPr/>
              <a:tblGrid>
                <a:gridCol w="776160"/>
                <a:gridCol w="776160"/>
                <a:gridCol w="776520"/>
              </a:tblGrid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l =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pi*F*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=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E-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E+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E-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1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3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E-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E+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1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3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E+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1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0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3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E+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pic>
        <p:nvPicPr>
          <p:cNvPr id="146" name="Chart 4" descr=""/>
          <p:cNvPicPr/>
          <p:nvPr/>
        </p:nvPicPr>
        <p:blipFill>
          <a:blip r:embed="rId1"/>
          <a:stretch/>
        </p:blipFill>
        <p:spPr>
          <a:xfrm>
            <a:off x="3505320" y="2365200"/>
            <a:ext cx="457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228600" y="457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.) Using a simple RL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) Create a graph showing the Frequency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1103400"/>
            <a:ext cx="6724800" cy="454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3867120" y="4649760"/>
            <a:ext cx="5276880" cy="2219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6553080" y="1676520"/>
            <a:ext cx="2590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4"/>
              <p:cNvSpPr txBox="1"/>
              <p:nvPr/>
            </p:nvSpPr>
            <p:spPr>
              <a:xfrm>
                <a:off x="2133720" y="3259080"/>
                <a:ext cx="11430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6"/>
              <p:cNvSpPr txBox="1"/>
              <p:nvPr/>
            </p:nvSpPr>
            <p:spPr>
              <a:xfrm>
                <a:off x="3652920" y="5943600"/>
                <a:ext cx="631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9"/>
              <p:cNvSpPr txBox="1"/>
              <p:nvPr/>
            </p:nvSpPr>
            <p:spPr>
              <a:xfrm>
                <a:off x="6423120" y="5867280"/>
                <a:ext cx="1390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 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Box 23"/>
          <p:cNvSpPr/>
          <p:nvPr/>
        </p:nvSpPr>
        <p:spPr>
          <a:xfrm>
            <a:off x="254160" y="45720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) How do multiple resistors combine in series and parall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2296800" y="342900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5036400" y="342900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arallel – 3 or more unequal resis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925920" y="639756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arallel – multiple equal value resis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4960800" y="63975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arallel – two unequal value resis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4" descr=""/>
          <p:cNvPicPr/>
          <p:nvPr/>
        </p:nvPicPr>
        <p:blipFill>
          <a:blip r:embed="rId1"/>
          <a:stretch/>
        </p:blipFill>
        <p:spPr>
          <a:xfrm>
            <a:off x="1301760" y="914400"/>
            <a:ext cx="2162160" cy="1562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"/>
          <p:cNvPicPr/>
          <p:nvPr/>
        </p:nvPicPr>
        <p:blipFill>
          <a:blip r:embed="rId2"/>
          <a:stretch/>
        </p:blipFill>
        <p:spPr>
          <a:xfrm>
            <a:off x="-9360" y="1925640"/>
            <a:ext cx="184752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838160" y="2455920"/>
          <a:ext cx="2298960" cy="954000"/>
        </p:xfrm>
        <a:graphic>
          <a:graphicData uri="http://schemas.openxmlformats.org/drawingml/2006/table">
            <a:tbl>
              <a:tblPr/>
              <a:tblGrid>
                <a:gridCol w="574920"/>
                <a:gridCol w="574560"/>
                <a:gridCol w="463680"/>
                <a:gridCol w="685800"/>
              </a:tblGrid>
              <a:tr h="22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+B2+B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pic>
        <p:nvPicPr>
          <p:cNvPr id="59" name="Picture 26" descr=""/>
          <p:cNvPicPr/>
          <p:nvPr/>
        </p:nvPicPr>
        <p:blipFill>
          <a:blip r:embed="rId3"/>
          <a:stretch/>
        </p:blipFill>
        <p:spPr>
          <a:xfrm>
            <a:off x="7296120" y="977760"/>
            <a:ext cx="1847880" cy="1657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5372280" y="2635200"/>
                <a:ext cx="20574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1" name="Picture 28" descr=""/>
          <p:cNvPicPr/>
          <p:nvPr/>
        </p:nvPicPr>
        <p:blipFill>
          <a:blip r:embed="rId4"/>
          <a:stretch/>
        </p:blipFill>
        <p:spPr>
          <a:xfrm>
            <a:off x="4619520" y="1239840"/>
            <a:ext cx="26766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"/>
          <p:cNvPicPr/>
          <p:nvPr/>
        </p:nvPicPr>
        <p:blipFill>
          <a:blip r:embed="rId5"/>
          <a:stretch/>
        </p:blipFill>
        <p:spPr>
          <a:xfrm>
            <a:off x="1301760" y="4029120"/>
            <a:ext cx="303840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982880" y="4876920"/>
          <a:ext cx="2208240" cy="9525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0800"/>
                <a:gridCol w="5526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2/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30" descr=""/>
          <p:cNvPicPr/>
          <p:nvPr/>
        </p:nvPicPr>
        <p:blipFill>
          <a:blip r:embed="rId6"/>
          <a:stretch/>
        </p:blipFill>
        <p:spPr>
          <a:xfrm>
            <a:off x="-31680" y="4573440"/>
            <a:ext cx="18478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"/>
          <p:cNvPicPr/>
          <p:nvPr/>
        </p:nvPicPr>
        <p:blipFill>
          <a:blip r:embed="rId7"/>
          <a:stretch/>
        </p:blipFill>
        <p:spPr>
          <a:xfrm>
            <a:off x="4619520" y="4148280"/>
            <a:ext cx="159084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495680" y="4956120"/>
          <a:ext cx="2800440" cy="1035000"/>
        </p:xfrm>
        <a:graphic>
          <a:graphicData uri="http://schemas.openxmlformats.org/drawingml/2006/table">
            <a:tbl>
              <a:tblPr/>
              <a:tblGrid>
                <a:gridCol w="304920"/>
                <a:gridCol w="685800"/>
                <a:gridCol w="457200"/>
                <a:gridCol w="1352520"/>
              </a:tblGrid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4.56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→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19*B20)/(B19+B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37" descr=""/>
          <p:cNvPicPr/>
          <p:nvPr/>
        </p:nvPicPr>
        <p:blipFill>
          <a:blip r:embed="rId8"/>
          <a:stretch/>
        </p:blipFill>
        <p:spPr>
          <a:xfrm>
            <a:off x="7296120" y="4029120"/>
            <a:ext cx="1847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00400" y="1103400"/>
            <a:ext cx="3867120" cy="17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0" y="1278000"/>
          <a:ext cx="3124080" cy="558000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426960"/>
                <a:gridCol w="768240"/>
                <a:gridCol w="48096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1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1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2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6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7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3&amp;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5,6,7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.5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34567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30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234567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.59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59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01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B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88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47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7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657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1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7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657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2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3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83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2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.2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.16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6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.44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7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9E-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864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.47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check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.47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check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.47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check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7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657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124080" y="3049560"/>
          <a:ext cx="4119840" cy="5448240"/>
        </p:xfrm>
        <a:graphic>
          <a:graphicData uri="http://schemas.openxmlformats.org/drawingml/2006/table">
            <a:tbl>
              <a:tblPr/>
              <a:tblGrid>
                <a:gridCol w="1373400"/>
                <a:gridCol w="1751040"/>
                <a:gridCol w="99540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&amp;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1/((1/B5)+(1/B4)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,6,7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1/((1/B6)+(1/B7)+(1/B8)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4567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0+B11+B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34567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1/((1/B3)+(1/B12)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3+B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*B13/B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5-(B10*B2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1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6-((B11)*B2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/B1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8*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1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/B1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9*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2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5/B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0*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6/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1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6/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2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6-B17)/B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3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6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6-B17)/B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4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7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6-B17)/B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5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8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15/B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6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heck 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1+B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7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2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heck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3+B24+B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8*100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heck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6+B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29*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2"/>
          <p:cNvSpPr/>
          <p:nvPr/>
        </p:nvSpPr>
        <p:spPr>
          <a:xfrm>
            <a:off x="251640" y="457200"/>
            <a:ext cx="8305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.) By example calculate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and all the nodal voltages, branch currents and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sipation of a resistor net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040" y="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 - Resis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200400" y="1069920"/>
            <a:ext cx="4572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28600" y="457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.) By example calculate the Thevenin Resistance and Voltage of a resistor network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0" y="826920"/>
            <a:ext cx="8051760" cy="60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0" y="1071720"/>
          <a:ext cx="2286000" cy="27540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3.84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34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3.8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h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9.5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h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093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667560" y="4173480"/>
          <a:ext cx="2476440" cy="3233880"/>
        </p:xfrm>
        <a:graphic>
          <a:graphicData uri="http://schemas.openxmlformats.org/drawingml/2006/table">
            <a:tbl>
              <a:tblPr/>
              <a:tblGrid>
                <a:gridCol w="1219320"/>
                <a:gridCol w="125712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3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4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3+B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3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2*B8)/(B2+B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5*B6)/(B5+B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345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B9+B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h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1*B7)/(B11+B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7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h =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=(B1*B7)/(B7+B1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800600" y="1500120"/>
            <a:ext cx="3600360" cy="2228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" y="457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.) Multiple capacitors combine in series and parall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076400" y="1371600"/>
            <a:ext cx="2552760" cy="2486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758960" y="826920"/>
            <a:ext cx="1017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ui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6091920" y="961920"/>
            <a:ext cx="1017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ui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315200" y="648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ion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0" y="387972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09480" y="0"/>
          <a:ext cx="3124440" cy="6778800"/>
        </p:xfrm>
        <a:graphic>
          <a:graphicData uri="http://schemas.openxmlformats.org/drawingml/2006/table">
            <a:tbl>
              <a:tblPr/>
              <a:tblGrid>
                <a:gridCol w="638280"/>
                <a:gridCol w="2486160"/>
              </a:tblGrid>
              <a:tr h="250920"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rocal approa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E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.2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22200"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Value approa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E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24000"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over sum approa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rocal approa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E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57E-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63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E+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50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.2E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09880" y="1143000"/>
          <a:ext cx="5334120" cy="5495760"/>
        </p:xfrm>
        <a:graphic>
          <a:graphicData uri="http://schemas.openxmlformats.org/drawingml/2006/table">
            <a:tbl>
              <a:tblPr/>
              <a:tblGrid>
                <a:gridCol w="395280"/>
                <a:gridCol w="1816200"/>
                <a:gridCol w="209520"/>
                <a:gridCol w="522360"/>
                <a:gridCol w="2390760"/>
              </a:tblGrid>
              <a:tr h="2253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rocal  approa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rocal approa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((1/E3)+(1/E2)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((1/B3)+(1/B2)+(1/B4)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Value approa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8/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UM(E7,E8,E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63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over sum approa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(2*PI()*E14*B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0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13*B14/(B13+B1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(2*PI()*E14*E1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sp>
        <p:nvSpPr>
          <p:cNvPr id="89" name="TextBox 5"/>
          <p:cNvSpPr/>
          <p:nvPr/>
        </p:nvSpPr>
        <p:spPr>
          <a:xfrm>
            <a:off x="4749480" y="53352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or Series/Parallel calc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" y="457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.) Multiple inductors combine in series and parall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80880" y="826920"/>
            <a:ext cx="2590920" cy="2524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343400" y="1455840"/>
            <a:ext cx="3533760" cy="126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536400" y="4648320"/>
            <a:ext cx="77155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06440" y="3429000"/>
          <a:ext cx="2565360" cy="1106640"/>
        </p:xfrm>
        <a:graphic>
          <a:graphicData uri="http://schemas.openxmlformats.org/drawingml/2006/table">
            <a:tbl>
              <a:tblPr/>
              <a:tblGrid>
                <a:gridCol w="609480"/>
                <a:gridCol w="735120"/>
                <a:gridCol w="611280"/>
                <a:gridCol w="609480"/>
              </a:tblGrid>
              <a:tr h="1904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ors in ser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+B3+B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218120" y="3505320"/>
          <a:ext cx="3784320" cy="952560"/>
        </p:xfrm>
        <a:graphic>
          <a:graphicData uri="http://schemas.openxmlformats.org/drawingml/2006/table">
            <a:tbl>
              <a:tblPr/>
              <a:tblGrid>
                <a:gridCol w="609480"/>
                <a:gridCol w="735120"/>
                <a:gridCol w="609480"/>
                <a:gridCol w="609480"/>
                <a:gridCol w="611280"/>
                <a:gridCol w="609480"/>
              </a:tblGrid>
              <a:tr h="1904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ors in paralle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=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(1/B8)+(1/B9)+(1/B10)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1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CT111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7440" y="457200"/>
            <a:ext cx="86868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.) Using a simple RC circuit determin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) Time 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Create a graph that shows the RC time constant as a function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.) Determine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t a fixed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.) Create a graph that shows how 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hanges as a function of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) Create a graph showing the Frequency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255840" y="2590920"/>
            <a:ext cx="2610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9:44:45Z</dcterms:created>
  <dc:creator>Current User</dc:creator>
  <dc:description/>
  <dc:language>en-US</dc:language>
  <cp:lastModifiedBy>Matthew Krueger</cp:lastModifiedBy>
  <dcterms:modified xsi:type="dcterms:W3CDTF">2013-05-06T14:20:23Z</dcterms:modified>
  <cp:revision>192</cp:revision>
  <dc:subject/>
  <dc:title>Slide 1</dc:title>
</cp:coreProperties>
</file>